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arrow.wav" ContentType="audio/x-wav"/>
  <Override PartName="/ppt/media/type.wav" ContentType="audio/x-wav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551-A317-4E2F-99C8-9B5070EE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6AA-C90C-413B-A3CE-A5C29243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D7B-9108-4CAD-83BE-5D2D4F78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B93-2FDB-4906-BE8B-75E627D0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9DF-E1B1-45D4-A2B6-40604E68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A7C-7061-4F02-BB67-A2F09932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2D54-5854-4ACA-90A4-186CF908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33F-0355-474B-BA4B-2FBEE8D1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3D0-5505-4F33-99B4-A0C7ED35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E23-E941-48D5-BCEF-093399B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26D-D3B1-411A-9D9F-1C02CB4A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DFF-6F95-4820-AD2B-93C21F02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0C75-400D-483F-8AEC-8D2931786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xroads.virginia.edu/~Hyper/detoc/religion/finney.html" TargetMode="External"/><Relationship Id="rId2" Type="http://schemas.openxmlformats.org/officeDocument/2006/relationships/hyperlink" Target="http://www.oberlin.edu/external/EOG/images/CharlesGrandisonFinney.html" TargetMode="External"/><Relationship Id="rId3" Type="http://schemas.openxmlformats.org/officeDocument/2006/relationships/hyperlink" Target="http://www.online-literature.com/emerson/" TargetMode="External"/><Relationship Id="rId4" Type="http://schemas.openxmlformats.org/officeDocument/2006/relationships/hyperlink" Target="http://my.hrw.com/tabnav/controller.jsp?isbn=0030411645" TargetMode="External"/><Relationship Id="rId5" Type="http://schemas.openxmlformats.org/officeDocument/2006/relationships/hyperlink" Target="http://womenshistory.about.com/od/stantonelizabeth/a/stanton.htm" TargetMode="External"/><Relationship Id="rId6" Type="http://schemas.openxmlformats.org/officeDocument/2006/relationships/hyperlink" Target="http://my.hrw.com/tabnav/controller.jsp?isbn=0030411645" TargetMode="External"/><Relationship Id="rId7" Type="http://schemas.openxmlformats.org/officeDocument/2006/relationships/hyperlink" Target="http://www.nd.edu/~rbarger/www7/mann.html" TargetMode="External"/><Relationship Id="rId8" Type="http://schemas.openxmlformats.org/officeDocument/2006/relationships/hyperlink" Target="http://www.webster.edu/~woolflm/dorotheadix.html" TargetMode="External"/><Relationship Id="rId9" Type="http://schemas.openxmlformats.org/officeDocument/2006/relationships/hyperlink" Target="http://womenshistory.about.com/od/suffragepre1848/p/lucretia_mott.htm" TargetMode="External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ndb.com/people/966/000049819/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3619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itannic Bold"/>
              </a:rPr>
              <a:t>THE INDIVIDUALS OF THE REFORM E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880" y="38095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BY HALEY DOW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PERIOD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DUE DATE: 2/22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184140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57800" y="0"/>
            <a:ext cx="190512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4648320"/>
            <a:ext cx="169056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676520" y="47242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505320" y="47242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410080" y="4724280"/>
            <a:ext cx="187020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238880" y="472428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237440" y="2209680"/>
            <a:ext cx="1906560" cy="251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0" y="220968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Elizabeth Cady Stanton "/>
          <p:cNvPicPr/>
          <p:nvPr/>
        </p:nvPicPr>
        <p:blipFill>
          <a:blip r:embed="rId12"/>
          <a:stretch/>
        </p:blipFill>
        <p:spPr>
          <a:xfrm>
            <a:off x="3429000" y="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p:transition advTm="6000">
    <p:fade/>
    <p:sndAc>
      <p:stSnd>
        <p:snd r:embed="rId1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McGuff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September 23,1800 Pennsylvania &amp; died May 418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president of Cincinnati College, Graduated from Washington College in 1826, sought to promote public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natural &amp; moral philoso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: Common School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plishments &amp; contributions: became president of Ohio University in 1839, In 1836 he wrote the first and seco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clectic Reade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2280960" cy="3581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herine Bee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September 6, 1800 &amp; Died on May 12 ,1878 in 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went to a private finishing school, set up colleges for women to become teachers, created school for girls where they could learn all types of subjects (including masculine 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physical health important in schools, god designed women to be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: Education R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plishments &amp; contribution: opened the Hartford Female Seminary in Connecticut, established many colleges to educate women to be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3032280" cy="4525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hecker dir="horz"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 Tu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October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800 &amp; executed November 11th 1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family born into slavery, was taught to read, led rebe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believed god had chosen him to free the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: Anti- slavery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ions &amp; accomplishments: led a rebellion of around 75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,000 of state militia had to deal with, hundreds of innocent slaves were kille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908440" cy="3835440"/>
          </a:xfrm>
          <a:prstGeom prst="rect">
            <a:avLst/>
          </a:prstGeom>
          <a:ln w="0">
            <a:noFill/>
          </a:ln>
        </p:spPr>
      </p:pic>
    </p:spTree>
  </p:cSld>
  <p:transition advTm="8000">
    <p:checker dir="vert"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Dou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February 1818 in Maryland &amp; d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20 189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suffered in slavery with his mother, was educated &amp; attended Anti- Slavery Society, moved around a 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“prejudice against color is against god” &amp; equality &amp; freed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: Anti- Slavery &amp; Women’s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plishments &amp; contributions:  wrot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Narrative on the Life of Frederick Douglass, An American Sla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1845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Bondage and My Freed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1855),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ife and Times of Frederick Douglass(18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&amp; abolitionist leader &amp; speaker @ Seneca Falls Convention, abolitionist newspaper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rth Sta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553080" y="1676520"/>
            <a:ext cx="2405160" cy="3611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 Grandison Finn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xroads.virginia.edu/~Hyper/detoc/religion/finne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berlin.edu/external/EOG/images/CharlesGrandisonFinne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http://my.hrw.com/tabnav/controller.jsp?isbn=00304116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lph Waldo Em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nline-literature.com/emerson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y.hrw.com/tabnav/controller.jsp?isbn=00304116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zabeth Cady Stanton =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omenshistory.about.com/od/stantonelizabeth/a/stanton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riet Tub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harriettubmanbiograph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my.hrw.com/tabnav/controller.jsp?isbn=0030411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ce 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my.hrw.com/tabnav/controller.jsp?isbn=0030411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nd.edu/~rbarger/www7/man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rothea Di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webster.edu/~woolflm/dorotheadi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my.hrw.com/tabnav/controller.jsp?isbn=0030411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cretia M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omenshistory.about.com/od/suffragepre1848/p/lucretia_mot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 continu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liam Lloyd Gar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ndb.com/people/966/00004981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encyclopedia.com/topic/William_Lloyd_Garrison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ohiohistorycentral.org/entry.php?rec=1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liam McGuff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answers.com/topic/william-holmes-mcguff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herine Bee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istory.sandiego.edu/gen/st/~myuen/catherinebeeche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freepages.history.rootsweb.ancestry.com/~dav4is/people/BEEC12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answers.com/topic/catharine-bee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 Tu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spartacus.schoolnet.co.uk/USASturner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my.hrw.com/tabnav/controller.jsp?isbn=0030411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drick Doug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my.hrw.com/tabnav/controller.jsp?isbn=0030411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online-literature.com/frederick_douglas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curtains.jpg movie curtain image by sunjoolee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ALEY DOW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over dir="d"/>
    <p:sndAc>
      <p:stSnd>
        <p:snd r:embed="rId2" name="applaus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Grandison Fin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rn on 1792 in Warren Connecticut, died in August of 18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ife story: studied law during the early 1800’s (btw. 1810-1820) and in 1821 had a conversion experience when he was saved. After which he became a preacher and wherever he traveled he set up religious rev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Key Beliefs: free will &amp; equality of men &amp; that god had led, taught and taught him the right way of leading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volved In the Second Great Awak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ovements in The Burned- Over Distr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ntributions to movement: led revivals and led meetings to reawaken the religious feelings in oth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ccomplishments: hundreds of people embracing his teachings (thus religion) &amp; in 1837 he became the minister of the First Congregational Church in Ober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91320" y="1654200"/>
            <a:ext cx="2895480" cy="4387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lph Waldo Em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rn on May 25 1803 in Boston Massachusetts &amp; Died April 27 18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ife story: Father died when he was a child, enjoyed writing in journals, became well known writer &amp; speaker, contradictions w/ school &amp; religious beliefs, minister in Second Church of Boston, etc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writer &amp; po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Key beliefs: harmony in man and nature &amp; individual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ovement: Transcendentalist Movement ( believed in reason, spirituality, and instin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ntributions to movement: gave sermons, lectures, and expressed Transcendentalist belief to others &amp; wrote essays &amp; po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ccomplishments: America’s most famous &amp; important auth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174840" cy="38102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hecker dir="horz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Cady Stan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orn November 12 1815 &amp; died October 26 19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ife Story ( in a nutshell)- married abolitionist Henry Stanton, set up meetings for Women’s Rights alongside  Lucretia Mott &amp; Susan B Anthony, focused on female suffrage and voting rights &amp; property rights for married wom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Key beliefs: women should have more &amp; equal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vement: Women’s Rights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ccomplishments &amp; contributions to Movement: founded National Woman Suffrage Association (she was president) 1890, wrote 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The Women’s Bible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amp;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 Eighty Years and More, &amp;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he won Property Rights for married women, equal guardianship of children, and liberalized divorce l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=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Elizabeth Cady Stanton "/>
          <p:cNvPicPr/>
          <p:nvPr/>
        </p:nvPicPr>
        <p:blipFill>
          <a:blip r:embed="rId1"/>
          <a:stretch/>
        </p:blipFill>
        <p:spPr>
          <a:xfrm>
            <a:off x="6400800" y="1600200"/>
            <a:ext cx="2465280" cy="3747960"/>
          </a:xfrm>
          <a:prstGeom prst="rect">
            <a:avLst/>
          </a:prstGeom>
          <a:ln w="0">
            <a:noFill/>
          </a:ln>
        </p:spPr>
      </p:pic>
    </p:spTree>
  </p:cSld>
  <p:transition advTm="8000">
    <p:checker dir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Tub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orn on 1822 in Maryland &amp; died in 1913 =[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ife story: Born into slavery, escaped from slavery in 1849, suffered from a head injury, operated of Underground Railroad, spy &amp; nurse during then civil war, abolitionist, and humanitar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Key Beliefs: fighting for freedom, equality, and jus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vement involved in: The Antislavery Movement (in the sou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tributions &amp; accomplishments in movement: led the underground Railroad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saving hundreds of slaves &amp; giving directions to others to help them escape, nursed black soldiers and slaves in the union, first woman to command an armed military rai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3013200" cy="4525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ace M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on 1796 in Massachuset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first secretary of education in MA, funded common-schools where teachers would receive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states should fund and supervise local school systems, mandatory atten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involved in: The Common- School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ions &amp; accomplishments: created country’s first normal school, passed compulsory attendance law, Father of American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3003480" cy="3840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ircle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thea D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April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802 &amp; died 1887 on July 1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she lived in an unstable household as a child, taught children, loved to read &amp; write, after visiting a prison she did not like the living conditions and sought to chang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mental illness wasn’t all incurable with the change of living conditions in prisons, despite their mental conditions improving living quality couldn’t hurt if not improv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involved in: Prison r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ions &amp; accomplishments: founded 32 mental hospitals, 15 schools for the slower minded. A school for the blind, and many nursing schools, Superintendent of Union Army Nu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743200" cy="3603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cretia Mo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on January 3 1793 &amp; died in November 11 18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She was a Quaker, Married James Mott, interested in Women’s Right, abolitionist, sheltered runaway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considered slavery evil &amp; wanted more rights for women, e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involved in: Antislavery &amp; Women’s Righ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plishment &amp; contributions: delegate to the World's Anti-Slavery Convention, elected first president of the American Equal Rights Con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870280" cy="3691080"/>
          </a:xfrm>
          <a:prstGeom prst="rect">
            <a:avLst/>
          </a:prstGeom>
          <a:ln w="0">
            <a:noFill/>
          </a:ln>
        </p:spPr>
      </p:pic>
    </p:spTree>
  </p:cSld>
  <p:transition advTm="8000">
    <p:blinds dir="horz"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Lloyd Gar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on December 10 1805 &amp; died on May 24 18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fe story: enjoyed reading as a child, wrot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ra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3voted himself to abolish9ing sla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beliefs: non-violent approach, moral persua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involved in: Anti- slavery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mplishments &amp; contributions: wrote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iberator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elped establish the American Anti-Slavery Society, helped established the Western Anti-Slavery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629400" y="2209680"/>
            <a:ext cx="2230560" cy="333216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in"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6:30:55Z</dcterms:created>
  <dc:creator>Tyler</dc:creator>
  <dc:description/>
  <dc:language>en-US</dc:language>
  <cp:lastModifiedBy>Tyler</cp:lastModifiedBy>
  <dcterms:modified xsi:type="dcterms:W3CDTF">2010-02-22T05:41:47Z</dcterms:modified>
  <cp:revision>20</cp:revision>
  <dc:subject/>
  <dc:title>THE INDIVIDUALS OF THE REFORM ERA </dc:title>
</cp:coreProperties>
</file>